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10134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1013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97680" cy="1013472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10134720"/>
              <a:gd name="textAreaBottom" fmla="*/ 10134360 h 10134720"/>
            </a:gdLst>
            <a:ahLst/>
            <a:rect l="textAreaLeft" t="textAreaTop" r="textAreaRight" b="textAreaBottom"/>
            <a:pathLst>
              <a:path w="21600" h="31283">
                <a:moveTo>
                  <a:pt x="5" y="0"/>
                </a:moveTo>
                <a:arcTo wR="5" hR="5" stAng="16200000" swAng="-5400000"/>
                <a:lnTo>
                  <a:pt x="0" y="31278"/>
                </a:lnTo>
                <a:arcTo wR="5" hR="5" stAng="10800000" swAng="-5400000"/>
                <a:lnTo>
                  <a:pt x="21595" y="3128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032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5400" y="0"/>
            <a:ext cx="3032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33480" y="4813200"/>
            <a:ext cx="5130720" cy="456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628200"/>
            <a:ext cx="3032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5400" y="9855360"/>
            <a:ext cx="3032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8240" bIns="48240" anchor="b">
            <a:sp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4280"/>
                <a:tab algn="l" pos="5668920"/>
                <a:tab algn="l" pos="6613560"/>
                <a:tab algn="l" pos="7558200"/>
                <a:tab algn="l" pos="8502480"/>
                <a:tab algn="l" pos="9447120"/>
                <a:tab algn="l" pos="10391760"/>
              </a:tabLst>
            </a:pPr>
            <a:fld id="{1F724643-F598-4F3C-A930-34073D91A9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5880" y="770040"/>
            <a:ext cx="5066280" cy="37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65160" y="75888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3480" y="4813200"/>
            <a:ext cx="5130720" cy="456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n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Studiengänge Bachelor und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terschied FH 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65160" y="75888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3480" y="4812840"/>
            <a:ext cx="5130720" cy="94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ute Kontakte zur Wirtschaft, viele Dozenten die direkt aus Führungpositionen von Unternehmen kom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raxissemester im Au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och mehr partnerhochschul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65160" y="75888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3480" y="4812840"/>
            <a:ext cx="5130720" cy="4556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Studienabschluss Bachelor, zuvor Diplom, Möglichkeit zum Master am Anschlu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Studienbeginn: 14.März , 4.Okto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Am Verfahren nimmt teil, wer sich innerhalb der allgemeinen Bewerbungsfristen formgerecht dafür bewirbt. Hierfür ist ein Antrag auf Zulassung auszufüllen und diesen mit den darin aufgeführten Unterlagen/Nachweisen einzureiche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Das Auswahlverfahren wird auf der Basis der vom Bewerber vorgelegten Unterlagen durchgefüh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Verfahrensnote entspricht Numerus Claus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Die Verfahrensnote basiert auf der Durchschnittsnote der Hochschulzugangsberechtigung, dem Durchschnitt der Fächer Mathematik, Deutsch und längst fortgeschrittenen Fremdsprache in der Oberstuf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Unterschied Diplom Bache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Internationalisierung des Bildungswese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90 % der Hochschulen der Welt verteilen Abschlüsse nach angloamerikanischer Tra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European Credit Transfer System: Leistungspunktsystem einfacher für Kooperation mit Ausland (Studis dort studieren und anders ru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Bis 2010 in ganz Deutschland eingefüh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90% der weltweiten Hochschulen arbeiten mit ECTS, Anerkennung in all diesen Länder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Ziel Bachelor: Vermittlung von Berufsqualifikation innerhalb der Regelstudienzeit von 6 Semester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273800" y="231840"/>
            <a:ext cx="171792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095960" cy="10238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705720"/>
            <a:ext cx="9144000" cy="152280"/>
          </a:xfrm>
          <a:prstGeom prst="roundRect">
            <a:avLst>
              <a:gd name="adj" fmla="val 694"/>
            </a:avLst>
          </a:prstGeom>
          <a:solidFill>
            <a:srgbClr val="0e31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0920" y="1022400"/>
            <a:ext cx="8997840" cy="120600"/>
          </a:xfrm>
          <a:prstGeom prst="roundRect">
            <a:avLst>
              <a:gd name="adj" fmla="val 1315"/>
            </a:avLst>
          </a:prstGeom>
          <a:solidFill>
            <a:srgbClr val="0e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22400"/>
            <a:ext cx="144360" cy="120600"/>
          </a:xfrm>
          <a:prstGeom prst="roundRect">
            <a:avLst>
              <a:gd name="adj" fmla="val 1315"/>
            </a:avLst>
          </a:prstGeom>
          <a:solidFill>
            <a:srgbClr val="0e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php.de/" TargetMode="External"/><Relationship Id="rId2" Type="http://schemas.openxmlformats.org/officeDocument/2006/relationships/hyperlink" Target="http://www.php.net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5400000">
            <a:off x="4042800" y="2689200"/>
            <a:ext cx="4399920" cy="155700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hhoch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tuttg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ochschule der Medi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812000" y="5948280"/>
            <a:ext cx="795600" cy="312840"/>
            <a:chOff x="7812000" y="5948280"/>
            <a:chExt cx="795600" cy="312840"/>
          </a:xfrm>
        </p:grpSpPr>
        <p:sp>
          <p:nvSpPr>
            <p:cNvPr id="51" name=""/>
            <p:cNvSpPr/>
            <p:nvPr/>
          </p:nvSpPr>
          <p:spPr>
            <a:xfrm>
              <a:off x="7812000" y="5948280"/>
              <a:ext cx="795600" cy="31284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2720" y="5948280"/>
              <a:ext cx="794160" cy="307800"/>
            </a:xfrm>
            <a:prstGeom prst="roundRect">
              <a:avLst>
                <a:gd name="adj" fmla="val 5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572000" y="0"/>
            <a:ext cx="144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9800" y="1314360"/>
            <a:ext cx="1822680" cy="1312920"/>
          </a:xfrm>
          <a:prstGeom prst="roundRect">
            <a:avLst>
              <a:gd name="adj" fmla="val 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Eine Präsentation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Hochschule der Med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konzipiert und gestaltet v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Marinela Cosic, Lisa Grözing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und Sissy Thom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tudiengang Medienwirtschaf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ommersemester SS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0" y="6545160"/>
            <a:ext cx="3107520" cy="24696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and: Juni 2002, Presse- und Öffentlichkeitsarbeit, H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51280" y="0"/>
            <a:ext cx="574200" cy="6856560"/>
            <a:chOff x="3851280" y="0"/>
            <a:chExt cx="574200" cy="6856560"/>
          </a:xfrm>
        </p:grpSpPr>
        <p:sp>
          <p:nvSpPr>
            <p:cNvPr id="57" name=""/>
            <p:cNvSpPr/>
            <p:nvPr/>
          </p:nvSpPr>
          <p:spPr>
            <a:xfrm>
              <a:off x="3851280" y="0"/>
              <a:ext cx="90000" cy="6856560"/>
            </a:xfrm>
            <a:custGeom>
              <a:avLst/>
              <a:gdLst>
                <a:gd name="textAreaLeft" fmla="*/ 360 w 90000"/>
                <a:gd name="textAreaRight" fmla="*/ 89640 w 90000"/>
                <a:gd name="textAreaTop" fmla="*/ 360 h 6856560"/>
                <a:gd name="textAreaBottom" fmla="*/ 6856200 h 6856560"/>
              </a:gdLst>
              <a:ahLst/>
              <a:rect l="textAreaLeft" t="textAreaTop" r="textAreaRight" b="textAreaBottom"/>
              <a:pathLst>
                <a:path w="21600" h="1639104">
                  <a:moveTo>
                    <a:pt x="385" y="0"/>
                  </a:moveTo>
                  <a:arcTo wR="385" hR="385" stAng="16200000" swAng="-5400000"/>
                  <a:lnTo>
                    <a:pt x="0" y="1638719"/>
                  </a:lnTo>
                  <a:arcTo wR="385" hR="385" stAng="10800000" swAng="-5400000"/>
                  <a:lnTo>
                    <a:pt x="21215" y="1639104"/>
                  </a:lnTo>
                  <a:arcTo wR="385" hR="385" stAng="5400000" swAng="-5400000"/>
                  <a:lnTo>
                    <a:pt x="21600" y="385"/>
                  </a:lnTo>
                  <a:arcTo wR="385" hR="385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51280" y="3357000"/>
              <a:ext cx="502920" cy="1080"/>
            </a:xfrm>
            <a:prstGeom prst="line">
              <a:avLst/>
            </a:prstGeom>
            <a:ln w="31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52760" y="3285360"/>
              <a:ext cx="72720" cy="1425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2760" y="3932640"/>
              <a:ext cx="72720" cy="1425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0"/>
            <a:ext cx="9144000" cy="213372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71600"/>
            <a:ext cx="9144000" cy="5486400"/>
          </a:xfrm>
          <a:prstGeom prst="roundRect">
            <a:avLst>
              <a:gd name="adj" fmla="val 28"/>
            </a:avLst>
          </a:prstGeom>
          <a:solidFill>
            <a:srgbClr val="0e31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87440" y="2895480"/>
            <a:ext cx="6689880" cy="3385800"/>
            <a:chOff x="1387440" y="2895480"/>
            <a:chExt cx="6689880" cy="3385800"/>
          </a:xfrm>
        </p:grpSpPr>
        <p:sp>
          <p:nvSpPr>
            <p:cNvPr id="64" name=""/>
            <p:cNvSpPr/>
            <p:nvPr/>
          </p:nvSpPr>
          <p:spPr>
            <a:xfrm>
              <a:off x="1387440" y="2895480"/>
              <a:ext cx="6689880" cy="188748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87440" y="2895480"/>
              <a:ext cx="6689880" cy="3385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1" lang="de-DE" sz="5400" spc="-1" strike="noStrike">
                  <a:solidFill>
                    <a:srgbClr val="ffffff"/>
                  </a:solidFill>
                  <a:latin typeface="Arial"/>
                </a:rPr>
                <a:t>CS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1" lang="de-DE" sz="5400" spc="-1" strike="noStrike">
                  <a:solidFill>
                    <a:srgbClr val="ffffff"/>
                  </a:solidFill>
                  <a:latin typeface="Arial"/>
                </a:rPr>
                <a:t>Cascading Stylesheet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73800" y="231840"/>
            <a:ext cx="1717920" cy="530280"/>
          </a:xfrm>
          <a:prstGeom prst="rect">
            <a:avLst/>
          </a:prstGeom>
          <a:ln w="0">
            <a:noFill/>
          </a:ln>
        </p:spPr>
      </p:pic>
      <p:pic>
        <p:nvPicPr>
          <p:cNvPr id="67" name="mi_logo_farbig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2351520"/>
            <a:ext cx="647712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f($_GET["site"]=="start" || $_GET["site"]=="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clude_once("start.html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f($_GET["site"]=="bilde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clude_once("bilder.html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f($_GET["site"]=="album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clude_once("album.php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64520" y="135576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ozu g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71600"/>
            <a:ext cx="9144000" cy="5486400"/>
          </a:xfrm>
          <a:prstGeom prst="roundRect">
            <a:avLst>
              <a:gd name="adj" fmla="val 28"/>
            </a:avLst>
          </a:prstGeom>
          <a:solidFill>
            <a:srgbClr val="0e31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581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Los geht‘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29120" y="2416320"/>
            <a:ext cx="6072120" cy="355428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1996: C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iftforma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Tabellenforma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Positionierung von Elem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1998: C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weiterung um 42 Eig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ei positionierbare HTML-E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de.selfhtml.org/cs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156852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s ist C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286000"/>
            <a:ext cx="777240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#menu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ition: absol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ft:10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p:10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dth:200p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ight:50p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:#0000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order:1px solid #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8040" y="1447920"/>
            <a:ext cx="2606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yles.c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2552760"/>
            <a:ext cx="89917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html&gt;&lt;head&gt;&lt;title&gt;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div id="menu"&gt;Container für das Menü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22360" y="1660680"/>
            <a:ext cx="27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43000" y="1266840"/>
          <a:ext cx="737244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737244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2220840"/>
            <a:ext cx="9510480" cy="4291200"/>
          </a:xfrm>
          <a:prstGeom prst="roundRect">
            <a:avLst>
              <a:gd name="adj" fmla="val 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position: static | relative | absolute | fixed | inher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background: &lt;background-color&gt;|&lt;background-image&gt;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border: &lt;border-width&gt;|&lt;border-style&gt;|&lt;border-colo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font-family:&lt;Schriftfamili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font-size:xx-smal | x-small | medium..... &lt;Höhe&gt;|&lt;Prozentwert&gt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width: &lt;Höhe&gt;|&lt;Prozentwert&gt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height: &lt;Höhe&gt;|&lt;Prozentwert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left: &lt;Abstand&gt;|&lt;Prozentwert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op: &lt; Abstand &gt;|&lt;Prozentwert&gt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ext-align:left | center | right 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1840" y="143208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5400000">
            <a:off x="4042800" y="2689200"/>
            <a:ext cx="4399920" cy="155700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hhoch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tuttg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ochschule der Medi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2000" y="5948280"/>
            <a:ext cx="795600" cy="312840"/>
            <a:chOff x="7812000" y="5948280"/>
            <a:chExt cx="795600" cy="312840"/>
          </a:xfrm>
        </p:grpSpPr>
        <p:sp>
          <p:nvSpPr>
            <p:cNvPr id="80" name=""/>
            <p:cNvSpPr/>
            <p:nvPr/>
          </p:nvSpPr>
          <p:spPr>
            <a:xfrm>
              <a:off x="7812000" y="5948280"/>
              <a:ext cx="795600" cy="31284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2720" y="5948280"/>
              <a:ext cx="794160" cy="307800"/>
            </a:xfrm>
            <a:prstGeom prst="roundRect">
              <a:avLst>
                <a:gd name="adj" fmla="val 5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0" y="0"/>
            <a:ext cx="144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9800" y="1314360"/>
            <a:ext cx="1822680" cy="1312920"/>
          </a:xfrm>
          <a:prstGeom prst="roundRect">
            <a:avLst>
              <a:gd name="adj" fmla="val 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Eine Präsentation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Hochschule der Med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konzipiert und gestaltet v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Marinela Cosic, Lisa Grözing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und Sissy Thom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tudiengang Medienwirtschaf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ommersemester SS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200" y="6545160"/>
            <a:ext cx="3107520" cy="24696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and: Juni 2002, Presse- und Öffentlichkeitsarbeit, H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51280" y="0"/>
            <a:ext cx="574200" cy="6856560"/>
            <a:chOff x="3851280" y="0"/>
            <a:chExt cx="574200" cy="6856560"/>
          </a:xfrm>
        </p:grpSpPr>
        <p:sp>
          <p:nvSpPr>
            <p:cNvPr id="86" name=""/>
            <p:cNvSpPr/>
            <p:nvPr/>
          </p:nvSpPr>
          <p:spPr>
            <a:xfrm>
              <a:off x="3851280" y="0"/>
              <a:ext cx="90000" cy="6856560"/>
            </a:xfrm>
            <a:custGeom>
              <a:avLst/>
              <a:gdLst>
                <a:gd name="textAreaLeft" fmla="*/ 360 w 90000"/>
                <a:gd name="textAreaRight" fmla="*/ 89640 w 90000"/>
                <a:gd name="textAreaTop" fmla="*/ 360 h 6856560"/>
                <a:gd name="textAreaBottom" fmla="*/ 6856200 h 6856560"/>
              </a:gdLst>
              <a:ahLst/>
              <a:rect l="textAreaLeft" t="textAreaTop" r="textAreaRight" b="textAreaBottom"/>
              <a:pathLst>
                <a:path w="21600" h="1639104">
                  <a:moveTo>
                    <a:pt x="385" y="0"/>
                  </a:moveTo>
                  <a:arcTo wR="385" hR="385" stAng="16200000" swAng="-5400000"/>
                  <a:lnTo>
                    <a:pt x="0" y="1638719"/>
                  </a:lnTo>
                  <a:arcTo wR="385" hR="385" stAng="10800000" swAng="-5400000"/>
                  <a:lnTo>
                    <a:pt x="21215" y="1639104"/>
                  </a:lnTo>
                  <a:arcTo wR="385" hR="385" stAng="5400000" swAng="-5400000"/>
                  <a:lnTo>
                    <a:pt x="21600" y="385"/>
                  </a:lnTo>
                  <a:arcTo wR="385" hR="385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1280" y="3357000"/>
              <a:ext cx="502920" cy="1080"/>
            </a:xfrm>
            <a:prstGeom prst="line">
              <a:avLst/>
            </a:prstGeom>
            <a:ln w="31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52760" y="3285360"/>
              <a:ext cx="72720" cy="1425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52760" y="3932640"/>
              <a:ext cx="72720" cy="1425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0"/>
            <a:ext cx="9144000" cy="213372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71600"/>
            <a:ext cx="9144000" cy="5486400"/>
          </a:xfrm>
          <a:prstGeom prst="roundRect">
            <a:avLst>
              <a:gd name="adj" fmla="val 28"/>
            </a:avLst>
          </a:prstGeom>
          <a:solidFill>
            <a:srgbClr val="0e31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87440" y="2895480"/>
            <a:ext cx="6689880" cy="3385800"/>
            <a:chOff x="1387440" y="2895480"/>
            <a:chExt cx="6689880" cy="3385800"/>
          </a:xfrm>
        </p:grpSpPr>
        <p:sp>
          <p:nvSpPr>
            <p:cNvPr id="93" name=""/>
            <p:cNvSpPr/>
            <p:nvPr/>
          </p:nvSpPr>
          <p:spPr>
            <a:xfrm>
              <a:off x="1387440" y="2895480"/>
              <a:ext cx="6689880" cy="188748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87440" y="2895480"/>
              <a:ext cx="6689880" cy="3385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1" lang="de-DE" sz="5400" spc="-1" strike="noStrike">
                  <a:solidFill>
                    <a:srgbClr val="ffffff"/>
                  </a:solidFill>
                  <a:latin typeface="Arial"/>
                </a:rPr>
                <a:t>PH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1" lang="de-DE" sz="5400" spc="-1" strike="noStrike">
                  <a:solidFill>
                    <a:srgbClr val="ffffff"/>
                  </a:solidFill>
                  <a:latin typeface="Arial"/>
                </a:rPr>
                <a:t>Hypertext Preprocesso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273800" y="231840"/>
            <a:ext cx="1717920" cy="530280"/>
          </a:xfrm>
          <a:prstGeom prst="rect">
            <a:avLst/>
          </a:prstGeom>
          <a:ln w="0">
            <a:noFill/>
          </a:ln>
        </p:spPr>
      </p:pic>
      <p:pic>
        <p:nvPicPr>
          <p:cNvPr id="96" name="mi_logo_farbig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2219040"/>
            <a:ext cx="73152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Skriptsprache mit eine an C bzw. Perl angelehnten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Verwendung zur Erstellung dynamischer Web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elfphp.d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php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65360" y="1355760"/>
            <a:ext cx="345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as ist PH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2589120"/>
            <a:ext cx="556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&lt;html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 &lt;head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  &lt;title&gt;PHP-Test&lt;/title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 &lt;/head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 &lt;body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 &lt;?php echo '&lt;p&gt;Hallo Welt&lt;/p&gt;'; ?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&lt;/body&gt;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920" y="1355760"/>
            <a:ext cx="25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dex.p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i</cp:lastModifiedBy>
  <dcterms:modified xsi:type="dcterms:W3CDTF">2005-04-07T05:58:10Z</dcterms:modified>
  <cp:revision>20</cp:revision>
  <dc:subject/>
  <dc:title>PowerPoint-Präsentation</dc:title>
</cp:coreProperties>
</file>